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4.jpeg" ContentType="image/jpeg"/>
  <Override PartName="/ppt/media/image2.png" ContentType="image/png"/>
  <Override PartName="/ppt/media/image11.jpeg" ContentType="image/jpeg"/>
  <Override PartName="/ppt/media/image9.jpeg" ContentType="image/jpeg"/>
  <Override PartName="/ppt/media/image1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280" y="91332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649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3055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3160" y="3073320"/>
            <a:ext cx="83055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2280" y="91332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649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40528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9080" y="1447560"/>
            <a:ext cx="40528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3160" y="3073320"/>
            <a:ext cx="40528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89080" y="3073320"/>
            <a:ext cx="40528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280" y="91332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649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26740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41160" y="1447560"/>
            <a:ext cx="26740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49520" y="1447560"/>
            <a:ext cx="26740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3160" y="3073320"/>
            <a:ext cx="26740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41160" y="3073320"/>
            <a:ext cx="26740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49520" y="3073320"/>
            <a:ext cx="26740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280" y="91332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6496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533160" y="1447560"/>
            <a:ext cx="830556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280" y="91332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649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30556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280" y="91332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649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405288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89080" y="1447560"/>
            <a:ext cx="405288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2280" y="91332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649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52280" y="913320"/>
            <a:ext cx="8686800" cy="21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280" y="91332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649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40528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89080" y="1447560"/>
            <a:ext cx="405288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33160" y="3073320"/>
            <a:ext cx="40528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2280" y="91332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649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3160" y="1447560"/>
            <a:ext cx="830556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280" y="91332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649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405288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89080" y="1447560"/>
            <a:ext cx="40528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89080" y="3073320"/>
            <a:ext cx="40528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280" y="91332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649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40528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89080" y="1447560"/>
            <a:ext cx="40528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33160" y="3073320"/>
            <a:ext cx="83055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280" y="91332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649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3055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33160" y="3073320"/>
            <a:ext cx="83055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2280" y="91332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649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40528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89080" y="1447560"/>
            <a:ext cx="40528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33160" y="3073320"/>
            <a:ext cx="40528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89080" y="3073320"/>
            <a:ext cx="40528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280" y="91332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649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26740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41160" y="1447560"/>
            <a:ext cx="26740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49520" y="1447560"/>
            <a:ext cx="26740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33160" y="3073320"/>
            <a:ext cx="26740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41160" y="3073320"/>
            <a:ext cx="26740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49520" y="3073320"/>
            <a:ext cx="26740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2280" y="91332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649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30556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280" y="91332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649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405288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89080" y="1447560"/>
            <a:ext cx="405288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280" y="91332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649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52280" y="913320"/>
            <a:ext cx="8686800" cy="21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280" y="91332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649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40528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89080" y="1447560"/>
            <a:ext cx="405288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3160" y="3073320"/>
            <a:ext cx="40528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91332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649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405288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89080" y="1447560"/>
            <a:ext cx="40528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89080" y="3073320"/>
            <a:ext cx="40528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280" y="91332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649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40528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9080" y="1447560"/>
            <a:ext cx="40528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3160" y="3073320"/>
            <a:ext cx="83055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7081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91332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86496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18649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33160" y="1447560"/>
            <a:ext cx="830556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2" descr="Texas logo.png"/>
          <p:cNvPicPr/>
          <p:nvPr/>
        </p:nvPicPr>
        <p:blipFill>
          <a:blip r:embed="rId3"/>
          <a:stretch/>
        </p:blipFill>
        <p:spPr>
          <a:xfrm>
            <a:off x="-17640" y="0"/>
            <a:ext cx="2011680" cy="685800"/>
          </a:xfrm>
          <a:prstGeom prst="rect">
            <a:avLst/>
          </a:prstGeom>
          <a:ln w="0">
            <a:noFill/>
          </a:ln>
        </p:spPr>
      </p:pic>
      <p:sp>
        <p:nvSpPr>
          <p:cNvPr id="4" name="Text Box 10"/>
          <p:cNvSpPr/>
          <p:nvPr/>
        </p:nvSpPr>
        <p:spPr>
          <a:xfrm>
            <a:off x="990720" y="15156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3    Regulation of the Cell Cycle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TEK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5A, 5B, 5C, 5D, 9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5"/>
          <p:cNvSpPr/>
          <p:nvPr/>
        </p:nvSpPr>
        <p:spPr>
          <a:xfrm>
            <a:off x="0" y="486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3.1 Ecologists Study Relationshi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280" y="91332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86496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186496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533160" y="1447560"/>
            <a:ext cx="830556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2133720" y="990720"/>
            <a:ext cx="579096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86496"/>
                </a:solidFill>
                <a:latin typeface="Arial"/>
              </a:rPr>
              <a:t>The student is expected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86496"/>
                </a:solidFill>
                <a:latin typeface="Arial"/>
              </a:rPr>
              <a:t>5A describe the stages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86496"/>
                </a:solidFill>
                <a:latin typeface="Arial"/>
              </a:rPr>
              <a:t>the cell cycle, inclu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86496"/>
                </a:solidFill>
                <a:latin typeface="Arial"/>
              </a:rPr>
              <a:t>deoxyribonucleic acid (DN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86496"/>
                </a:solidFill>
                <a:latin typeface="Arial"/>
              </a:rPr>
              <a:t>replication and mitosis, and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86496"/>
                </a:solidFill>
                <a:latin typeface="Arial"/>
              </a:rPr>
              <a:t>importance of the cell cycle to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86496"/>
                </a:solidFill>
                <a:latin typeface="Arial"/>
              </a:rPr>
              <a:t>growth of organisms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86496"/>
                </a:solidFill>
                <a:latin typeface="Arial"/>
              </a:rPr>
              <a:t>5B examine specialized cells, including roots, stems, and leaves of plants; and animal cells such as blood, muscle, and epithelium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6" descr="Screen shot 2012-10-31 at 10.17.00 AM.png"/>
          <p:cNvPicPr/>
          <p:nvPr/>
        </p:nvPicPr>
        <p:blipFill>
          <a:blip r:embed="rId1"/>
          <a:stretch/>
        </p:blipFill>
        <p:spPr>
          <a:xfrm>
            <a:off x="838080" y="1828800"/>
            <a:ext cx="114300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904760" y="914040"/>
            <a:ext cx="56386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86496"/>
                </a:solidFill>
                <a:latin typeface="Arial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86496"/>
                </a:solidFill>
                <a:latin typeface="Arial"/>
              </a:rPr>
              <a:t>5C describe the roles of DNA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86496"/>
                </a:solidFill>
                <a:latin typeface="Arial"/>
              </a:rPr>
              <a:t>ribonucleic acid (RNA)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86496"/>
                </a:solidFill>
                <a:latin typeface="Arial"/>
              </a:rPr>
              <a:t>environmental factors in c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86496"/>
                </a:solidFill>
                <a:latin typeface="Arial"/>
              </a:rPr>
              <a:t>differentiation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86496"/>
                </a:solidFill>
                <a:latin typeface="Arial"/>
              </a:rPr>
              <a:t>5D recognize that disruptions 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86496"/>
                </a:solidFill>
                <a:latin typeface="Arial"/>
              </a:rPr>
              <a:t>the cell cycle lead to diseas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86496"/>
                </a:solidFill>
                <a:latin typeface="Arial"/>
              </a:rPr>
              <a:t>such as cancer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86496"/>
                </a:solidFill>
                <a:latin typeface="Arial"/>
              </a:rPr>
              <a:t>9C identify and investigate the role of enzy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6" descr="Screen shot 2012-10-31 at 10.17.00 AM.png"/>
          <p:cNvPicPr/>
          <p:nvPr/>
        </p:nvPicPr>
        <p:blipFill>
          <a:blip r:embed="rId1"/>
          <a:stretch/>
        </p:blipFill>
        <p:spPr>
          <a:xfrm>
            <a:off x="685800" y="1752480"/>
            <a:ext cx="114300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4"/>
          <p:cNvSpPr/>
          <p:nvPr/>
        </p:nvSpPr>
        <p:spPr>
          <a:xfrm>
            <a:off x="533520" y="838080"/>
            <a:ext cx="8076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86496"/>
                </a:solidFill>
                <a:latin typeface="Arial"/>
              </a:rPr>
              <a:t>KEY CONCEPT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 cycle regulation is necessary for healthy grow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" descr="bhspe-0205co-001"/>
          <p:cNvPicPr/>
          <p:nvPr/>
        </p:nvPicPr>
        <p:blipFill>
          <a:blip r:embed="rId1"/>
          <a:stretch/>
        </p:blipFill>
        <p:spPr>
          <a:xfrm>
            <a:off x="1523880" y="2165400"/>
            <a:ext cx="5943600" cy="4387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817560"/>
            <a:ext cx="8686800" cy="45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84040" indent="-284040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86496"/>
                </a:solidFill>
                <a:latin typeface="Arial"/>
              </a:rPr>
              <a:t>Internal and external factors regulate cell division.</a:t>
            </a:r>
            <a:endParaRPr b="1" lang="en-US" sz="2400" spc="-1" strike="noStrike">
              <a:solidFill>
                <a:srgbClr val="186496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533160" y="1371600"/>
            <a:ext cx="8305560" cy="170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ernal factors include physical and chemical signa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factors are proteins that stimulate cell divis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mammal cells form a single layer in a culture dish and stop dividing once they touch other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7" descr="_x0008_144a.jpg                                                       0006B018&#9;Macintosh                      BEB7E0B0:"/>
          <p:cNvPicPr/>
          <p:nvPr/>
        </p:nvPicPr>
        <p:blipFill>
          <a:blip r:embed="rId2"/>
          <a:stretch/>
        </p:blipFill>
        <p:spPr>
          <a:xfrm>
            <a:off x="2362320" y="3733920"/>
            <a:ext cx="4365360" cy="23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0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533520" y="926640"/>
            <a:ext cx="8229600" cy="82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of the most important internal factors are kinases and cycli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5"/>
          <p:cNvSpPr/>
          <p:nvPr/>
        </p:nvSpPr>
        <p:spPr>
          <a:xfrm>
            <a:off x="533520" y="190512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ernal factors trigger internal factors, which affect the cell cyc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533160" y="1363320"/>
            <a:ext cx="8305560" cy="243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normal feature of healthy organis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used by a cell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production of self-destructive enzy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curs 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men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inf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Group 17"/>
          <p:cNvGrpSpPr/>
          <p:nvPr/>
        </p:nvGrpSpPr>
        <p:grpSpPr>
          <a:xfrm>
            <a:off x="3205080" y="2362320"/>
            <a:ext cx="5639040" cy="4097160"/>
            <a:chOff x="3205080" y="2362320"/>
            <a:chExt cx="5639040" cy="4097160"/>
          </a:xfrm>
        </p:grpSpPr>
        <p:pic>
          <p:nvPicPr>
            <p:cNvPr id="94" name="Picture 7" descr="bhspe-020503-003"/>
            <p:cNvPicPr/>
            <p:nvPr/>
          </p:nvPicPr>
          <p:blipFill>
            <a:blip r:embed="rId1"/>
            <a:stretch/>
          </p:blipFill>
          <p:spPr>
            <a:xfrm>
              <a:off x="6046920" y="2362320"/>
              <a:ext cx="2797200" cy="409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" name="Picture 4" descr="bhspe-020503-002"/>
            <p:cNvPicPr/>
            <p:nvPr/>
          </p:nvPicPr>
          <p:blipFill>
            <a:blip r:embed="rId2"/>
            <a:stretch/>
          </p:blipFill>
          <p:spPr>
            <a:xfrm>
              <a:off x="3205080" y="2397240"/>
              <a:ext cx="2725920" cy="402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Text Box 10"/>
            <p:cNvSpPr/>
            <p:nvPr/>
          </p:nvSpPr>
          <p:spPr>
            <a:xfrm>
              <a:off x="3324600" y="2882880"/>
              <a:ext cx="13878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ffff"/>
                  </a:solidFill>
                  <a:latin typeface="Arial"/>
                </a:rPr>
                <a:t>webbed finger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Line 11"/>
            <p:cNvSpPr/>
            <p:nvPr/>
          </p:nvSpPr>
          <p:spPr>
            <a:xfrm>
              <a:off x="3992400" y="3162240"/>
              <a:ext cx="293760" cy="11811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Rectangle 14"/>
          <p:cNvSpPr/>
          <p:nvPr/>
        </p:nvSpPr>
        <p:spPr>
          <a:xfrm>
            <a:off x="533520" y="92700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optosis is programmed cell dea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0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600" y="800280"/>
            <a:ext cx="8686800" cy="45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84040" indent="-284040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86496"/>
                </a:solidFill>
                <a:latin typeface="Arial"/>
              </a:rPr>
              <a:t>Cell division is uncontrolled in cancer.</a:t>
            </a:r>
            <a:endParaRPr b="1" lang="en-US" sz="2400" spc="-1" strike="noStrike">
              <a:solidFill>
                <a:srgbClr val="186496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33520" y="1359000"/>
            <a:ext cx="8610480" cy="4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cer cells form disorganized clumps called tumo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4" descr="C:\Documents and Settings\alpana.dubey\My Documents\Alpana\chapter_5\bhspe-020503-004a.jpg"/>
          <p:cNvPicPr/>
          <p:nvPr/>
        </p:nvPicPr>
        <p:blipFill>
          <a:blip r:embed="rId2"/>
          <a:stretch/>
        </p:blipFill>
        <p:spPr>
          <a:xfrm>
            <a:off x="104760" y="3657600"/>
            <a:ext cx="2819520" cy="28195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C:\Documents and Settings\alpana.dubey\My Documents\Alpana\chapter_5\bhspe-020503-004b.jpg"/>
          <p:cNvPicPr/>
          <p:nvPr/>
        </p:nvPicPr>
        <p:blipFill>
          <a:blip r:embed="rId3"/>
          <a:stretch/>
        </p:blipFill>
        <p:spPr>
          <a:xfrm>
            <a:off x="3152880" y="3733920"/>
            <a:ext cx="2819160" cy="28191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C:\Documents and Settings\alpana.dubey\My Documents\Alpana\chapter_5\bhspe-020503-004c.jpg"/>
          <p:cNvPicPr/>
          <p:nvPr/>
        </p:nvPicPr>
        <p:blipFill>
          <a:blip r:embed="rId4"/>
          <a:stretch/>
        </p:blipFill>
        <p:spPr>
          <a:xfrm>
            <a:off x="6200640" y="3733920"/>
            <a:ext cx="2819520" cy="2819160"/>
          </a:xfrm>
          <a:prstGeom prst="rect">
            <a:avLst/>
          </a:prstGeom>
          <a:ln w="0">
            <a:noFill/>
          </a:ln>
        </p:spPr>
      </p:pic>
      <p:grpSp>
        <p:nvGrpSpPr>
          <p:cNvPr id="104" name="Group 13"/>
          <p:cNvGrpSpPr/>
          <p:nvPr/>
        </p:nvGrpSpPr>
        <p:grpSpPr>
          <a:xfrm>
            <a:off x="31320" y="3352680"/>
            <a:ext cx="3591000" cy="1905120"/>
            <a:chOff x="31320" y="3352680"/>
            <a:chExt cx="3591000" cy="1905120"/>
          </a:xfrm>
        </p:grpSpPr>
        <p:sp>
          <p:nvSpPr>
            <p:cNvPr id="105" name="Text Box 7"/>
            <p:cNvSpPr/>
            <p:nvPr/>
          </p:nvSpPr>
          <p:spPr>
            <a:xfrm>
              <a:off x="1216440" y="3352680"/>
              <a:ext cx="103104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cancer cell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Text Box 8"/>
            <p:cNvSpPr/>
            <p:nvPr/>
          </p:nvSpPr>
          <p:spPr>
            <a:xfrm>
              <a:off x="2454120" y="3527280"/>
              <a:ext cx="11682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bloodstream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Text Box 9"/>
            <p:cNvSpPr/>
            <p:nvPr/>
          </p:nvSpPr>
          <p:spPr>
            <a:xfrm>
              <a:off x="31320" y="3352680"/>
              <a:ext cx="10494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normal cell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Line 10"/>
            <p:cNvSpPr/>
            <p:nvPr/>
          </p:nvSpPr>
          <p:spPr>
            <a:xfrm flipH="1">
              <a:off x="561600" y="3581280"/>
              <a:ext cx="7596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Line 11"/>
            <p:cNvSpPr/>
            <p:nvPr/>
          </p:nvSpPr>
          <p:spPr>
            <a:xfrm flipH="1">
              <a:off x="1171440" y="3581280"/>
              <a:ext cx="533520" cy="167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12"/>
            <p:cNvSpPr/>
            <p:nvPr/>
          </p:nvSpPr>
          <p:spPr>
            <a:xfrm flipH="1">
              <a:off x="2390400" y="3733560"/>
              <a:ext cx="60948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AutoShape 14"/>
          <p:cNvSpPr/>
          <p:nvPr/>
        </p:nvSpPr>
        <p:spPr>
          <a:xfrm rot="16200000">
            <a:off x="2695320" y="4660560"/>
            <a:ext cx="609840" cy="838440"/>
          </a:xfrm>
          <a:prstGeom prst="downArrow">
            <a:avLst>
              <a:gd name="adj1" fmla="val 50000"/>
              <a:gd name="adj2" fmla="val 34371"/>
            </a:avLst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15"/>
          <p:cNvSpPr/>
          <p:nvPr/>
        </p:nvSpPr>
        <p:spPr>
          <a:xfrm rot="16200000">
            <a:off x="5819760" y="4660920"/>
            <a:ext cx="609840" cy="838080"/>
          </a:xfrm>
          <a:prstGeom prst="downArrow">
            <a:avLst>
              <a:gd name="adj1" fmla="val 50000"/>
              <a:gd name="adj2" fmla="val 34357"/>
            </a:avLst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6"/>
          <p:cNvSpPr/>
          <p:nvPr/>
        </p:nvSpPr>
        <p:spPr>
          <a:xfrm>
            <a:off x="533520" y="1917720"/>
            <a:ext cx="8610480" cy="12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enign tumors remain clustered and can be remov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lignant tumors metastasize, or break away, and can form more tumo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0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533160" y="927000"/>
            <a:ext cx="8305560" cy="4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cer cells do not carry out necessary func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533520" y="1486080"/>
            <a:ext cx="8305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cer cells come from normal cells with damage to genes involved in cell-cycle regu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5" descr="_x0008_144b.jpg                                                       0006B018&#9;Macintosh                      BEB7E0B0:"/>
          <p:cNvPicPr/>
          <p:nvPr/>
        </p:nvPicPr>
        <p:blipFill>
          <a:blip r:embed="rId1"/>
          <a:stretch/>
        </p:blipFill>
        <p:spPr>
          <a:xfrm>
            <a:off x="2424240" y="2922480"/>
            <a:ext cx="4294080" cy="24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0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160" y="927000"/>
            <a:ext cx="8305560" cy="4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cinogens are substances known to promote canc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4" descr="bhspe-020503-010"/>
          <p:cNvPicPr/>
          <p:nvPr/>
        </p:nvPicPr>
        <p:blipFill>
          <a:blip r:embed="rId1"/>
          <a:stretch/>
        </p:blipFill>
        <p:spPr>
          <a:xfrm>
            <a:off x="1600200" y="2486160"/>
            <a:ext cx="5867280" cy="400356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5"/>
          <p:cNvSpPr/>
          <p:nvPr/>
        </p:nvSpPr>
        <p:spPr>
          <a:xfrm>
            <a:off x="533520" y="1486080"/>
            <a:ext cx="8305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cancer treatments typically kill both cancerous and healthy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0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4T16:17:10Z</dcterms:created>
  <dc:creator>McDougal Littell</dc:creator>
  <dc:description/>
  <dc:language>en-US</dc:language>
  <cp:lastModifiedBy>walmart</cp:lastModifiedBy>
  <dcterms:modified xsi:type="dcterms:W3CDTF">2013-12-22T05:21:30Z</dcterms:modified>
  <cp:revision>93</cp:revision>
  <dc:subject/>
  <dc:title>PowerPoint Presentation</dc:title>
</cp:coreProperties>
</file>